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94D-F812-4A21-BFC3-9AAEE602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A1B-C355-4011-8137-B31111D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BF7-417D-4321-BAA3-2604C0DB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D98-A370-407D-A02B-67976DB8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99E1-D89B-404C-AEFA-ED440551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D5E5-6BE9-47AE-96E1-9415AA98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C69C-C91E-45D4-B035-5EE87068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5F6-E28C-4346-9CFD-FAB0AF9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E9C-4A9C-4EDA-B738-E7499CC7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AE3-9C87-4B27-AFA1-2324153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044-437E-428B-8869-04171FF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AA1-DF3F-45D2-8EA4-C98027F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468D-F986-4ADE-84EE-3ABE3F9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0C6-AB51-48F8-812C-FE1A24B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16D-AE42-4AD0-A78C-8D85FBEE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912-B90E-4F79-9E88-37C618BB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6C69-51A3-4BCC-9F7F-CBE06ACF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A11-CC0A-41AE-AC2B-6928D01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000-9137-4CC2-B2F7-9FA5C6F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9C9-1CD5-4BD3-AA8B-FB954B19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049-EB4C-467F-A502-DE8E09F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D88-F1BF-40D9-BA87-4C65C0D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994-6BFC-47E2-A02A-780FE40D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A1B-FEC2-4EC8-A9F2-6BB1588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0C4-25DD-4358-AB01-C5C8093AAA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4370-0E93-4A5B-A6C6-2963BC7892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otvet.ru/articles/opredelenie-prichastie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Причастие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как часть речи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996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Для чего нужна речь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Users\р\Desktop\i (1).jpg"/>
          <p:cNvPicPr/>
          <p:nvPr/>
        </p:nvPicPr>
        <p:blipFill>
          <a:blip r:embed="rId1"/>
          <a:stretch/>
        </p:blipFill>
        <p:spPr>
          <a:xfrm>
            <a:off x="3143160" y="2714760"/>
            <a:ext cx="3000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327368-250px_king_hyrule_large"/>
          <p:cNvPicPr/>
          <p:nvPr/>
        </p:nvPicPr>
        <p:blipFill>
          <a:blip r:embed="rId1"/>
          <a:stretch/>
        </p:blipFill>
        <p:spPr>
          <a:xfrm>
            <a:off x="1116000" y="189000"/>
            <a:ext cx="190188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snowwhite_wp_04_800"/>
          <p:cNvPicPr/>
          <p:nvPr/>
        </p:nvPicPr>
        <p:blipFill>
          <a:blip r:embed="rId2"/>
          <a:stretch/>
        </p:blipFill>
        <p:spPr>
          <a:xfrm>
            <a:off x="5076720" y="189000"/>
            <a:ext cx="31687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8"/>
          <p:cNvGrpSpPr/>
          <p:nvPr/>
        </p:nvGrpSpPr>
        <p:grpSpPr>
          <a:xfrm>
            <a:off x="324000" y="2708280"/>
            <a:ext cx="3995640" cy="1330200"/>
            <a:chOff x="324000" y="2708280"/>
            <a:chExt cx="3995640" cy="1330200"/>
          </a:xfrm>
        </p:grpSpPr>
        <p:sp>
          <p:nvSpPr>
            <p:cNvPr id="106" name="Text Box 10"/>
            <p:cNvSpPr/>
            <p:nvPr/>
          </p:nvSpPr>
          <p:spPr>
            <a:xfrm>
              <a:off x="755640" y="270828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Король Глаго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24000" y="3213000"/>
              <a:ext cx="39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Грамматическ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- действ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4534920" y="2637000"/>
            <a:ext cx="4603320" cy="1329840"/>
            <a:chOff x="4534920" y="2637000"/>
            <a:chExt cx="4603320" cy="1329840"/>
          </a:xfrm>
        </p:grpSpPr>
        <p:sp>
          <p:nvSpPr>
            <p:cNvPr id="109" name="Rectangle 11"/>
            <p:cNvSpPr/>
            <p:nvPr/>
          </p:nvSpPr>
          <p:spPr>
            <a:xfrm>
              <a:off x="4534920" y="2637000"/>
              <a:ext cx="460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Королева Прилагатель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4968360" y="3141360"/>
              <a:ext cx="393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Грамматическ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- призна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Line 15"/>
          <p:cNvSpPr/>
          <p:nvPr/>
        </p:nvSpPr>
        <p:spPr>
          <a:xfrm>
            <a:off x="3132000" y="3933720"/>
            <a:ext cx="1008360" cy="503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5003640" y="3933720"/>
            <a:ext cx="1152720" cy="503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3" descr="i (1)"/>
          <p:cNvPicPr/>
          <p:nvPr/>
        </p:nvPicPr>
        <p:blipFill>
          <a:blip r:embed="rId3"/>
          <a:stretch/>
        </p:blipFill>
        <p:spPr>
          <a:xfrm>
            <a:off x="3780000" y="4581360"/>
            <a:ext cx="1384200" cy="2076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473040" y="515772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нц Причас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5211360" y="5157720"/>
            <a:ext cx="39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Грамматическое 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Вопросы, на которые мы должны ответить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чем различие устной и письменной ре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овы особенности письменной ре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то такое причас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овы признаки причаст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какой речи чаще употребляется причастие? Почем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Продолжительность проек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63180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Проект рассчитан на 10 час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Представление результатов исследования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Изложени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очинени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ворческая презентац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Информационные ресурсы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Что такое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пределение причастия и его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частный обор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бразование причас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потребление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</a:rPr>
              <a:t>Автор проект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Буркан Али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35:51Z</dcterms:created>
  <dc:creator>Алиса</dc:creator>
  <dc:description/>
  <dc:language>en-US</dc:language>
  <cp:lastModifiedBy>студент</cp:lastModifiedBy>
  <dcterms:modified xsi:type="dcterms:W3CDTF">2011-04-13T04:30:14Z</dcterms:modified>
  <cp:revision>19</cp:revision>
  <dc:subject/>
  <dc:title>Причастие как часть ре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